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625-9DF5-4CCB-BD2F-2248430A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0BE-462B-49F4-AA44-B718E781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537-BE65-4845-A6AC-2FBCCFE7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179-9675-43F3-BBB7-E6BA932F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159-AE6C-4104-AF1E-D5512AAC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84F-EC40-4F12-AD7E-DD7338ED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007-11F6-47C1-AD98-71682018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B96-6CA4-4847-9659-9F7E2B5E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6CD-7844-4663-9093-764A44A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A72-9323-4E3A-AEC6-4027145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D6F-54C0-4B29-869E-26420120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9A1-8AEE-4738-A4D4-52E399F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04E1-60FC-4EC3-8491-6D1133359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albania.jpg"/>
          <p:cNvPicPr/>
          <p:nvPr/>
        </p:nvPicPr>
        <p:blipFill>
          <a:blip r:embed="rId1"/>
          <a:stretch/>
        </p:blipFill>
        <p:spPr>
          <a:xfrm>
            <a:off x="-250920" y="0"/>
            <a:ext cx="964584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Calibri"/>
              </a:rPr>
              <a:t>Albania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Abbie Crone, Micah Walker, Bobby Mu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id the people come fr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st of the Caspian 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to the Balk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toman Tu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were they ruled by and in what time period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 ( 165 BC-395 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zantine Empire (395 AD – 1385A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oman Empire (1385 AD – 1912 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r’s infl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in in Albania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yrians (ancient Albanian ancestor) had at least 10-20 emperors who ruled the emp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Byzantine emperors of ancient Albanian desc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2 dozen grand viziers of Turkey were of Albania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rs and Conflicts before breakup of Yugoslav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bian – Albanian Conflict (lasted for several centu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kan W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me an independent country as a result of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I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aly 1939 – 19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any 1939 - 194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 % of population Musl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% of them Sun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iculture – 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s –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y –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0504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[Country map of Albania]"/>
          <p:cNvPicPr/>
          <p:nvPr/>
        </p:nvPicPr>
        <p:blipFill>
          <a:blip r:embed="rId1"/>
          <a:stretch/>
        </p:blipFill>
        <p:spPr>
          <a:xfrm>
            <a:off x="4952880" y="3711600"/>
            <a:ext cx="4191120" cy="314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hysical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order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est marked physical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ivision of a lake distri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3 states sharing low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70% of country mounta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acess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46:52Z</dcterms:created>
  <dc:creator>abbiencrone</dc:creator>
  <dc:description/>
  <dc:language>en-US</dc:language>
  <cp:lastModifiedBy>claude crone</cp:lastModifiedBy>
  <dcterms:modified xsi:type="dcterms:W3CDTF">2010-05-04T01:54:11Z</dcterms:modified>
  <cp:revision>4</cp:revision>
  <dc:subject/>
  <dc:title>Albanians</dc:title>
</cp:coreProperties>
</file>